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1CB5-C57C-4152-B1C7-D0F210079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0C6A-8982-45BA-B331-419AF5A6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552E-0575-44C4-BBBB-580A11992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956C-C3DE-4591-A59F-E60656D62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FF8B-A438-41BA-968A-82EEE61E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8FED-9CC6-4BE3-87C9-38880D37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5F4C-203B-425F-98CA-24A3B60A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A8E2-71A4-4BA5-86DE-306178C7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E2D6-9094-4F79-8102-C064C1F9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D1B8-2EEE-453F-A4ED-C552C0ED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FD24-4A20-4AB7-B154-DF5BF59A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DA32-1AEE-4EE3-A26B-CA4044C5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CE4C-EFC8-4FA6-9EBB-03FA9F3AF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tereopsis" TargetMode="External"/><Relationship Id="rId2" Type="http://schemas.openxmlformats.org/officeDocument/2006/relationships/hyperlink" Target="http://en.wikipedia.org/wiki/Thumb" TargetMode="External"/><Relationship Id="rId3" Type="http://schemas.openxmlformats.org/officeDocument/2006/relationships/hyperlink" Target="http://en.wikipedia.org/wiki/Prehensility" TargetMode="Externa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exual_dimorphis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Prim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55640" y="620640"/>
            <a:ext cx="1335888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396720" y="-316080"/>
            <a:ext cx="4878360" cy="4969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348000" y="2205000"/>
            <a:ext cx="615312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-7381800" y="189000"/>
            <a:ext cx="1540980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A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Live in Asia and Af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No tai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Vocalis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Locomotion styles signific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rachiation, knuckle walking, quadrapedalism, bipedal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8685360" cy="44276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486900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Orangutan,           Bonobo,                   Gorilla,                Chi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486900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Locomo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ool user – solves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615312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47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Locomotion?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Problem solv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291636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564000" y="0"/>
            <a:ext cx="5810040" cy="38768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Locomotion?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381132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Homin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umans and Human ances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Large cranial capacity with respect to body s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Opposable thu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Other primate fea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elevant Lifestyl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olour Vision  be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Grasping hands  developed to extreme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Forward facing eyes be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Large cranial capacity (in relation to body size) beca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Dependent infants – cultural 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ocial groups – cultural 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hare a Common Ancestor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prosimians, monkeys, apes, hum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elevant Lifestyl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olour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Grasping h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Forward facing e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Dependent inf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ocial grou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Large cranial capacity in relation to body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Primates are a Mammalian grou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haracteris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aptations for climbing trees although many different types of loco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mates are characterized by their large brains, relative to other mammal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increased reliance on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tereoscopi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vision at the expense of smell, the dominant sensory system in most mamma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st also have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pposable thumb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some have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rehensi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ai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y species are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exually dimorphi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which means males and females have different physical traits, including body mass, canine tooth size, and color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mates have slower rates of development than other similarly sized mammals, and reach maturity later but have longer lifespa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species live in solitude, others live in male–female pairs, and others live in groups of up to hundreds of me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Prosim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Exhibit some features similar to early ances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ut have specialised to their own selection pressures so not the same as the early ances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97080" y="4697280"/>
            <a:ext cx="81723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Loris,bush baby, lem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936144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4437000"/>
            <a:ext cx="37544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Use scent to commun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ail for ba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5543640" cy="4157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465800" y="333360"/>
            <a:ext cx="4678200" cy="3187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500720" y="3116160"/>
            <a:ext cx="464328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Monkeys and Ap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New World Monke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ave developed a 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prehensile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t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ll live in trees (arboreal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Need colour vision and vocalisation to communica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acial features impor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ange of locomotion sty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7174080" cy="4737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55640" y="494172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6600"/>
                </a:solidFill>
                <a:latin typeface="Castellar"/>
              </a:rPr>
              <a:t>Golden Lion Tamar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9072720" cy="6245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6948360" y="3500280"/>
            <a:ext cx="1771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l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411280" y="3429000"/>
            <a:ext cx="2105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quirrel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411280" y="404640"/>
            <a:ext cx="1924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akar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516720" y="2421000"/>
            <a:ext cx="2333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amari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Old World Monke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Live in the Old World (Africa and As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errestrial and arboreal dwel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prehensile tai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till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olour vision and vocalisation to communica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Facial features impor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ange of locomotion sty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2T02:39:13Z</dcterms:created>
  <dc:creator>debbie.m</dc:creator>
  <dc:description/>
  <dc:language>en-US</dc:language>
  <cp:lastModifiedBy>Ministry of Education</cp:lastModifiedBy>
  <dcterms:modified xsi:type="dcterms:W3CDTF">2011-05-07T03:28:28Z</dcterms:modified>
  <cp:revision>6</cp:revision>
  <dc:subject/>
  <dc:title>Primates</dc:title>
</cp:coreProperties>
</file>